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1DAF-7576-4A6D-AF00-C3C12DCA3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AB8-4D65-4A2C-9558-FCB9BD077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6CB-3E70-43C5-8B9D-088CA4B0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7DC1-28F0-470E-BBE4-51E0B79E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332-B314-43D4-9CE1-8DAE83AA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18F9-E8E7-4F0A-A7A1-44980C2C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D83-4B75-4893-98C8-2BA33D6D9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5F8C-0F28-4644-B4C3-D59A681F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86D2-8136-4336-B794-74DF21C2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0F8-701C-4E11-A30E-F55F17B59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691-9965-41F4-9C80-15E7C58F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0907-F864-41C1-B1AD-88B21304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9DA9-E713-468E-9F03-8FE45071D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53352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048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ed by Jonathan, Thomas, and Sumerl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790640" y="609480"/>
            <a:ext cx="5562720" cy="341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Ravie"/>
              </a:rPr>
              <a:t>Pygmalion Review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Ravie"/>
              <a:ea typeface="Ravie"/>
            </a:endParaRPr>
          </a:p>
        </p:txBody>
      </p:sp>
      <p:pic>
        <p:nvPicPr>
          <p:cNvPr id="44" name="leprechaun23" descr=""/>
          <p:cNvPicPr/>
          <p:nvPr/>
        </p:nvPicPr>
        <p:blipFill>
          <a:blip r:embed="rId1"/>
          <a:stretch/>
        </p:blipFill>
        <p:spPr>
          <a:xfrm>
            <a:off x="2743200" y="3962520"/>
            <a:ext cx="3886200" cy="2355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3886200" y="1600200"/>
            <a:ext cx="1447920" cy="1143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6212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7th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in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gg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rofessor of phonetics who transformed Eliza Dooli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liz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olit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oor flower girl who is taught proper language and transformed into a duch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cke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like Higgins in that he has an interest in phonetics, but he treats Eliza with more respe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Main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fred Doolitt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Eliza’s father who cares more for money than his daugh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rs. Higgi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Professor Higgin’s mother who does not approve of his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ynsford Hill’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family of a mother, daughter, and son who appears throughout the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Eliza usually wear to sleep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Mr. Doolittle’s excuse for not having mor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gins states that all women are wh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thinks that Eliza is a Hungarian princ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 Eliza throw at Higgins out of frust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0680" indent="-49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does Eliza say she learned self-respect fro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lack_superman" descr=""/>
          <p:cNvPicPr/>
          <p:nvPr/>
        </p:nvPicPr>
        <p:blipFill>
          <a:blip r:embed="rId1"/>
          <a:stretch/>
        </p:blipFill>
        <p:spPr>
          <a:xfrm>
            <a:off x="5410080" y="1828800"/>
            <a:ext cx="3124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 day clot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says he can’t afford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i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pomm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 slipp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nel Pick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weird0004" descr=""/>
          <p:cNvPicPr/>
          <p:nvPr/>
        </p:nvPicPr>
        <p:blipFill>
          <a:blip r:embed="rId1"/>
          <a:stretch/>
        </p:blipFill>
        <p:spPr>
          <a:xfrm>
            <a:off x="5257800" y="3505320"/>
            <a:ext cx="329256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uch money does Mr. Doolittle ask in exchange for his daugh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o is getting married at the end of the boo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re does the play op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6995814_dd1abc37fc" descr=""/>
          <p:cNvPicPr/>
          <p:nvPr/>
        </p:nvPicPr>
        <p:blipFill>
          <a:blip r:embed="rId1"/>
          <a:stretch/>
        </p:blipFill>
        <p:spPr>
          <a:xfrm>
            <a:off x="4724280" y="2057400"/>
            <a:ext cx="40388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p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 Dooli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. Charles Chu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DREWTAYLORNIKE150" descr="Traylor, Drew"/>
          <p:cNvPicPr/>
          <p:nvPr/>
        </p:nvPicPr>
        <p:blipFill>
          <a:blip r:embed="rId2"/>
          <a:stretch/>
        </p:blipFill>
        <p:spPr>
          <a:xfrm>
            <a:off x="5257800" y="2133720"/>
            <a:ext cx="218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ef Story 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1905120"/>
            <a:ext cx="5791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story is about the transformation of a young poor flower girl into a girl that was able to pass herself off as a duchess.  Henry Higgins, a professor of phonetics, takes her into his house and teaches her to speak perfect English and present herself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8:57:34Z</dcterms:created>
  <dc:creator>DU</dc:creator>
  <dc:description/>
  <dc:language>en-US</dc:language>
  <cp:lastModifiedBy>DU</cp:lastModifiedBy>
  <dcterms:modified xsi:type="dcterms:W3CDTF">2006-10-10T19:08:02Z</dcterms:modified>
  <cp:revision>3</cp:revision>
  <dc:subject/>
  <dc:title>PowerPoint Presentation</dc:title>
</cp:coreProperties>
</file>